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A9E-CDA6-435C-93CF-A776FC95F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A400-EC99-4071-84A8-C507F69E7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599F-C0E8-420B-9A21-2AB6803FE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DD01-BC93-4FE5-882B-2762F253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FF16-49A3-443E-9745-9901C0FF1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50A-562D-4885-ADF3-031831AA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5518-C5BE-4638-99C5-6C0D39C85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0F6E-E93C-4992-86DB-9233F8A2D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BEAB-4551-4BD3-AD63-FA596A728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AF54-00C4-4799-A38D-8E8B7596B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FDAC-3C01-4EE5-AAD0-EFB355718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7904-7B05-424C-A8D7-174AC9274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5501-9164-4B80-B38E-F47678C46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56E-0CC6-47DD-B90E-567ABEBAB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BC8E-76DB-47C2-B51A-A117436FC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BA0E-F4C6-442E-88CA-D0C7A1628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D77D-5ACA-458F-833C-E4E90E4D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6816-7BAC-4D5F-9876-644BC4A15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797E-2A0F-46F3-A068-4827EF41794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Purchases Using a Purchases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AD9-F7A4-4AF6-8668-5FB2FC3D3F4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C:\Documents and Settings\mcm08@fuse.net\My Documents\2005 Business Projects\Slides for Century 21 Accounting\Blue\ch09\C21_blue_0904.jpg"/>
          <p:cNvPicPr/>
          <p:nvPr/>
        </p:nvPicPr>
        <p:blipFill>
          <a:blip r:embed="rId1"/>
          <a:srcRect l="0" t="0" r="4952" b="0"/>
          <a:stretch/>
        </p:blipFill>
        <p:spPr>
          <a:xfrm>
            <a:off x="600120" y="1419120"/>
            <a:ext cx="7315200" cy="36864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9"/>
          <p:cNvGrpSpPr/>
          <p:nvPr/>
        </p:nvGrpSpPr>
        <p:grpSpPr>
          <a:xfrm>
            <a:off x="7763040" y="3552840"/>
            <a:ext cx="791640" cy="838080"/>
            <a:chOff x="7763040" y="3552840"/>
            <a:chExt cx="791640" cy="838080"/>
          </a:xfrm>
        </p:grpSpPr>
        <p:sp>
          <p:nvSpPr>
            <p:cNvPr id="143" name="Freeform 18"/>
            <p:cNvSpPr/>
            <p:nvPr/>
          </p:nvSpPr>
          <p:spPr>
            <a:xfrm>
              <a:off x="7763040" y="3552840"/>
              <a:ext cx="609480" cy="83808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0" y="0"/>
                  </a:move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8143920" y="3767040"/>
              <a:ext cx="41076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17640" y="5105520"/>
            <a:ext cx="42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mp the date received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 IN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924680" y="139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7924680" y="4518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7924680" y="2562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818960" y="585144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vendor’s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820760" y="5105520"/>
            <a:ext cx="38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s of the person wh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ed the invo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4400" y="585144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by eac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22C-E6FA-48B3-8F87-7CD83A7F5F9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MERCHANDISE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C:\Documents and Settings\mcm08@fuse.net\My Documents\2005 Business Projects\Slides for Century 21 Accounting\Blue\ch09\C21_blue_0905.jpg"/>
          <p:cNvPicPr/>
          <p:nvPr/>
        </p:nvPicPr>
        <p:blipFill>
          <a:blip r:embed="rId1"/>
          <a:srcRect l="0" t="0" r="0" b="15024"/>
          <a:stretch/>
        </p:blipFill>
        <p:spPr>
          <a:xfrm>
            <a:off x="304920" y="2286000"/>
            <a:ext cx="853416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mcm08@fuse.net\My Documents\2005 Business Projects\Slides for Century 21 Accounting\Blue\ch09\C21_blue_0906.jpg"/>
          <p:cNvPicPr/>
          <p:nvPr/>
        </p:nvPicPr>
        <p:blipFill>
          <a:blip r:embed="rId2"/>
          <a:stretch/>
        </p:blipFill>
        <p:spPr>
          <a:xfrm>
            <a:off x="5486400" y="4343400"/>
            <a:ext cx="3352680" cy="1581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83808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65760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609588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784872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2. Purchased merchandise on account from Crown Distributing, $2,039.00. Purchase Invoice No. 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-39240" y="437040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-41760" y="4740120"/>
            <a:ext cx="38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-44280" y="5103720"/>
            <a:ext cx="52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purchase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-42120" y="5470560"/>
            <a:ext cx="47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mount of the invo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18A6-8686-4162-9B6B-0A90C87C8A6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NG AND RULING A PURCHAS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C:\Documents and Settings\mcm08@fuse.net\My Documents\2005 Business Projects\Slides for Century 21 Accounting\Blue\ch09\C21_blue_0907.jpg"/>
          <p:cNvPicPr/>
          <p:nvPr/>
        </p:nvPicPr>
        <p:blipFill>
          <a:blip r:embed="rId1"/>
          <a:stretch/>
        </p:blipFill>
        <p:spPr>
          <a:xfrm>
            <a:off x="304920" y="1447920"/>
            <a:ext cx="8001000" cy="3201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1031760" y="426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133720" y="3962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32448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22960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8001000" y="1981080"/>
            <a:ext cx="868320" cy="1905120"/>
            <a:chOff x="8001000" y="1981080"/>
            <a:chExt cx="868320" cy="1905120"/>
          </a:xfrm>
        </p:grpSpPr>
        <p:sp>
          <p:nvSpPr>
            <p:cNvPr id="179" name="Line 14"/>
            <p:cNvSpPr/>
            <p:nvPr/>
          </p:nvSpPr>
          <p:spPr>
            <a:xfrm flipV="1">
              <a:off x="8001000" y="2133720"/>
              <a:ext cx="6094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845820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7"/>
          <p:cNvGrpSpPr/>
          <p:nvPr/>
        </p:nvGrpSpPr>
        <p:grpSpPr>
          <a:xfrm>
            <a:off x="7848720" y="4343400"/>
            <a:ext cx="1020600" cy="868320"/>
            <a:chOff x="7848720" y="4343400"/>
            <a:chExt cx="1020600" cy="868320"/>
          </a:xfrm>
        </p:grpSpPr>
        <p:sp>
          <p:nvSpPr>
            <p:cNvPr id="182" name="Line 15"/>
            <p:cNvSpPr/>
            <p:nvPr/>
          </p:nvSpPr>
          <p:spPr>
            <a:xfrm>
              <a:off x="7848720" y="4343400"/>
              <a:ext cx="822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8458200" y="48006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Rectangle 18"/>
          <p:cNvSpPr/>
          <p:nvPr/>
        </p:nvSpPr>
        <p:spPr>
          <a:xfrm>
            <a:off x="304920" y="48196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a single line across the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3049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304920" y="58514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4572000" y="4819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4572000" y="5181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4572000" y="554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double lines across the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B301-8EBC-4444-9C74-3CD1187ABD7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sale 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on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amoun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in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41 – Work Together and Ow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60 – Application Problem 9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4B0-907A-415F-A83E-7877C0E4649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onto quizlet and make sure you can see the terms for chapter 9 in your Accounting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B7D-6A99-442D-9274-1B302223AD0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disin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between retail merchandising business and wholesale 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bby Shack INC. (read top of page 2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F211-D5CF-4E81-9272-FD359EA4BB8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Journ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chase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purchases of merchandise on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h Payment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cash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le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sales of merchandise on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sh Receipts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ro all cash rece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 Jou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for all othe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use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anies that have a lot of daily transactions it is faster then using just a general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423A-0C38-4E64-BFD6-D7B41B74500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Merchan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rofit/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rofit/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FE8B-EACE-4869-ADA2-1320801B4D4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Merchan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Account (new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page 231 chart of accou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F1C-F2F0-4569-BE83-7330E33C584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rofit/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 flipV="1">
            <a:off x="4191120" y="2285640"/>
            <a:ext cx="762480" cy="1249920"/>
          </a:xfrm>
          <a:prstGeom prst="straightConnector1">
            <a:avLst/>
          </a:prstGeom>
          <a:ln w="25560">
            <a:solidFill>
              <a:srgbClr val="ff3c3c"/>
            </a:solidFill>
            <a:miter/>
            <a:tailEnd len="med" type="arrow" w="med"/>
          </a:ln>
        </p:spPr>
      </p:cxnSp>
      <p:pic>
        <p:nvPicPr>
          <p:cNvPr id="120" name="Picture 4" descr="C:\Documents and Settings\mcm08@fuse.net\My Documents\2005 Business Projects\Slides for Century 21 Accounting\Blue\ch09\C21_blue_0901.jpg"/>
          <p:cNvPicPr/>
          <p:nvPr/>
        </p:nvPicPr>
        <p:blipFill>
          <a:blip r:embed="rId1"/>
          <a:stretch/>
        </p:blipFill>
        <p:spPr>
          <a:xfrm>
            <a:off x="4978440" y="4259160"/>
            <a:ext cx="31496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Cost (As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5C60-E9A6-4CDE-8502-70B6648F733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817560" y="1565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ical Cost Concept – when the actual amount paid for merchandise or other items bough is 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912960" y="25909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historical-cost principle, under U.S. GAAP, most assets held on the balance sheet are to be recorded at the historical cost even if they have significantly changed in value over tim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ay the main headquarters of a company, which includes the land and building, was bought for $100,000 in 1925, and its expected market value today is $20 million. The asset is still recorded on the balance sheet at $100,000.  (investopedia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70CD-B9D5-4E8B-94A7-48DA8715708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mcm08@fuse.net\My Documents\2005 Business Projects\Slides for Century 21 Accounting\Blue\ch09\C21_blue_0902.jpg"/>
          <p:cNvPicPr/>
          <p:nvPr/>
        </p:nvPicPr>
        <p:blipFill>
          <a:blip r:embed="rId1"/>
          <a:stretch/>
        </p:blipFill>
        <p:spPr>
          <a:xfrm>
            <a:off x="4952880" y="2016000"/>
            <a:ext cx="3657600" cy="2311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C:\Documents and Settings\mcm08@fuse.net\My Documents\2005 Business Projects\Slides for Century 21 Accounting\Blue\ch09\C21_blue_0901.jpg"/>
          <p:cNvPicPr/>
          <p:nvPr/>
        </p:nvPicPr>
        <p:blipFill>
          <a:blip r:embed="rId2"/>
          <a:stretch/>
        </p:blipFill>
        <p:spPr>
          <a:xfrm>
            <a:off x="765000" y="2104920"/>
            <a:ext cx="3911760" cy="2132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124080" y="2514600"/>
            <a:ext cx="11430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410080" y="2514600"/>
            <a:ext cx="11430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3C8-1108-40EA-B120-5E59AF19E26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C:\Documents and Settings\mcm08@fuse.net\My Documents\2005 Business Projects\Slides for Century 21 Accounting\Blue\ch09\C21_blue_0903.jpg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1881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19T17:34:10Z</dcterms:modified>
  <cp:revision>27</cp:revision>
  <dc:subject/>
  <dc:title>Lesson 9-1</dc:title>
</cp:coreProperties>
</file>